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F825-858A-4E0F-AE1C-463BCE5C2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8B89-A04D-458F-9FE7-B9B50753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1D86-7978-49C4-92EA-808A6DE30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EB16-29C0-463D-AED5-9D62CB374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F0D9-8AC5-40B2-A99E-7214DD52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5A13-C3EA-4FF5-96A7-D94A3C2A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FBF3-2031-48BD-B814-B289E928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576F-47FF-4D89-83E2-9097CB00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FC4D-70A9-4063-A989-E158C150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89DD-0C02-42B6-8C99-E80654BC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594B-5AD5-4E2C-8A2F-60D29BA7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6EFE-02D3-47F2-82FE-F1CD3AC3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E672-B14C-4E59-9C0B-A5D44A11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9C2B-BA95-4C94-9C11-A08070FD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4657-B725-4363-BB0E-0E16F45B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FEE0-7B4D-40F7-96BF-F3C0F6F92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06EE-53CF-47AD-A609-CA7EE9AD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B211-E73F-420C-BD84-CFBC2255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A661-9B50-471A-A555-E863661E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1CFA-26AF-4C56-A981-06540D39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EC21-65D8-4BB4-9156-05E5FA9C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6E79-7A87-4D85-BCF4-1EEA5754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0C2A-47B7-44BF-81F4-C32F47B8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EC03-E1FC-4110-96EA-A769FE6E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8C4F-B5A6-49E6-8B6B-5DA239A172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D730-A3F7-4320-846F-FB6F384802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349360"/>
            <a:ext cx="8964720" cy="16099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Что мы знаем о числах великанах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ff"/>
                </a:solidFill>
                <a:latin typeface="Comic Sans MS"/>
              </a:rPr>
              <a:t>Вывод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1828800"/>
            <a:ext cx="7918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 результате наших исследований, у нас получилась эта презентация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Эта тема очень важна при изучении математики, она развивает мышление и фантазию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50920" y="620280"/>
            <a:ext cx="7696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00cc00"/>
                </a:solidFill>
                <a:latin typeface="Comic Sans MS"/>
              </a:rPr>
              <a:t>Для сокращения записи больших чисел давно используется система величин, в которой каждая из последующих в тысячу раз больше предыдущей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1000 единиц</a:t>
            </a:r>
            <a:r>
              <a:rPr b="1" lang="ru-RU" sz="2800" spc="-1" strike="noStrike">
                <a:solidFill>
                  <a:srgbClr val="9900cc"/>
                </a:solidFill>
                <a:latin typeface="Comic Sans MS"/>
              </a:rPr>
              <a:t> – просто тысяч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1000 тысяч</a:t>
            </a:r>
            <a:r>
              <a:rPr b="1" lang="ru-RU" sz="2800" spc="-1" strike="noStrike">
                <a:solidFill>
                  <a:srgbClr val="9900cc"/>
                </a:solidFill>
                <a:latin typeface="Comic Sans MS"/>
              </a:rPr>
              <a:t> – 1 миллио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1000 миллионов</a:t>
            </a:r>
            <a:r>
              <a:rPr b="1" lang="ru-RU" sz="2800" spc="-1" strike="noStrike">
                <a:solidFill>
                  <a:srgbClr val="9900cc"/>
                </a:solidFill>
                <a:latin typeface="Comic Sans MS"/>
              </a:rPr>
              <a:t> – 1 биллион ( или миллиард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1000 биллионов</a:t>
            </a:r>
            <a:r>
              <a:rPr b="1" lang="ru-RU" sz="2800" spc="-1" strike="noStrike">
                <a:solidFill>
                  <a:srgbClr val="9900cc"/>
                </a:solidFill>
                <a:latin typeface="Comic Sans MS"/>
              </a:rPr>
              <a:t> – 1 триллио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4" descr="ь сброьт "/>
          <p:cNvPicPr/>
          <p:nvPr/>
        </p:nvPicPr>
        <p:blipFill>
          <a:blip r:embed="rId1"/>
          <a:stretch/>
        </p:blipFill>
        <p:spPr>
          <a:xfrm>
            <a:off x="7164360" y="4724280"/>
            <a:ext cx="134316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1000 триллионов</a:t>
            </a:r>
            <a:r>
              <a:rPr b="1" lang="ru-RU" sz="2800" spc="-1" strike="noStrike">
                <a:solidFill>
                  <a:srgbClr val="9900cc"/>
                </a:solidFill>
                <a:latin typeface="Comic Sans MS"/>
              </a:rPr>
              <a:t> – 1 квадриллион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1000 квадриллионов-</a:t>
            </a:r>
            <a:r>
              <a:rPr b="1" lang="ru-RU" sz="2800" spc="-1" strike="noStrike">
                <a:solidFill>
                  <a:srgbClr val="9900cc"/>
                </a:solidFill>
                <a:latin typeface="Comic Sans MS"/>
              </a:rPr>
              <a:t> 1 квинтиллио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1000 квинтиллионов</a:t>
            </a:r>
            <a:r>
              <a:rPr b="1" lang="ru-RU" sz="2800" spc="-1" strike="noStrike">
                <a:solidFill>
                  <a:srgbClr val="9900cc"/>
                </a:solidFill>
                <a:latin typeface="Comic Sans MS"/>
              </a:rPr>
              <a:t> – 1секстиллио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1000 секстиллионов</a:t>
            </a:r>
            <a:r>
              <a:rPr b="1" lang="ru-RU" sz="2800" spc="-1" strike="noStrike">
                <a:solidFill>
                  <a:srgbClr val="9900cc"/>
                </a:solidFill>
                <a:latin typeface="Comic Sans MS"/>
              </a:rPr>
              <a:t> – 1 септиллио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1000 септиллионов</a:t>
            </a:r>
            <a:r>
              <a:rPr b="1" lang="ru-RU" sz="2800" spc="-1" strike="noStrike">
                <a:solidFill>
                  <a:srgbClr val="9900cc"/>
                </a:solidFill>
                <a:latin typeface="Comic Sans MS"/>
              </a:rPr>
              <a:t> – 1октиллио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1000 октиллионов</a:t>
            </a:r>
            <a:r>
              <a:rPr b="1" lang="ru-RU" sz="2800" spc="-1" strike="noStrike">
                <a:solidFill>
                  <a:srgbClr val="9900cc"/>
                </a:solidFill>
                <a:latin typeface="Comic Sans MS"/>
              </a:rPr>
              <a:t> – 1 нониллион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1000 нониллионов</a:t>
            </a:r>
            <a:r>
              <a:rPr b="1" lang="ru-RU" sz="2800" spc="-1" strike="noStrike">
                <a:solidFill>
                  <a:srgbClr val="9900cc"/>
                </a:solidFill>
                <a:latin typeface="Comic Sans MS"/>
              </a:rPr>
              <a:t> – 1 дециллио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1000 дециллионов</a:t>
            </a:r>
            <a:r>
              <a:rPr b="1" lang="ru-RU" sz="2800" spc="-1" strike="noStrike">
                <a:solidFill>
                  <a:srgbClr val="9900cc"/>
                </a:solidFill>
                <a:latin typeface="Comic Sans MS"/>
              </a:rPr>
              <a:t> - ундециллион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4" descr="солнце"/>
          <p:cNvPicPr/>
          <p:nvPr/>
        </p:nvPicPr>
        <p:blipFill>
          <a:blip r:embed="rId1"/>
          <a:stretch/>
        </p:blipFill>
        <p:spPr>
          <a:xfrm>
            <a:off x="6227640" y="4221000"/>
            <a:ext cx="2519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68706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00cc"/>
                </a:solidFill>
                <a:uFillTx/>
                <a:latin typeface="Comic Sans MS"/>
              </a:rPr>
              <a:t>МИЛЛИАРД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137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Слово </a:t>
            </a:r>
            <a:r>
              <a:rPr b="1" lang="ru-RU" sz="2400" spc="-1" strike="noStrike">
                <a:solidFill>
                  <a:srgbClr val="00cc00"/>
                </a:solidFill>
                <a:latin typeface="Comic Sans MS"/>
              </a:rPr>
              <a:t>„миллиард"</a:t>
            </a: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 употребляется у нас в смысле тысячи миллионов и при денежных вычислениях и в точных науках. Но, например, в Германии и в Америке под миллиардом иногда имеют ввиду не тысячу, а всего сто миллионов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Этим, между прочим, можно объяснить то, что слово „миллиардер" было в ходу за океаном еще тогда, когда ни один из тамошних богачей не имел состояния в тысячу миллионов. Огромное состояние Рокфеллера не­задолго до войны исчислялось „всего" 900 миллионов долларов, а остальных „миллиардеров"-меньшими чи­слами. Только во время войны появились в Америке миллиардеры в нашем смысле слова (их иногда называют на родине „биллионерами"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4" descr="ученый"/>
          <p:cNvPicPr/>
          <p:nvPr/>
        </p:nvPicPr>
        <p:blipFill>
          <a:blip r:embed="rId1"/>
          <a:stretch/>
        </p:blipFill>
        <p:spPr>
          <a:xfrm>
            <a:off x="6588000" y="5445000"/>
            <a:ext cx="1503360" cy="12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7696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200"/>
                </a:solidFill>
                <a:latin typeface="Comic Sans MS"/>
              </a:rPr>
              <a:t>   </a:t>
            </a:r>
            <a:r>
              <a:rPr b="1" lang="ru-RU" sz="2600" spc="-1" strike="noStrike">
                <a:solidFill>
                  <a:srgbClr val="0033cc"/>
                </a:solidFill>
                <a:latin typeface="Comic Sans MS"/>
              </a:rPr>
              <a:t>Чтобы составить себе представление об огромности миллиарда, представьте себе, что в книжке в 200 страниц не более 200.000 букв. </a:t>
            </a:r>
            <a:r>
              <a:rPr b="1" lang="ru-RU" sz="2600" spc="-1" strike="noStrike">
                <a:solidFill>
                  <a:srgbClr val="00cc00"/>
                </a:solidFill>
                <a:latin typeface="Comic Sans MS"/>
              </a:rPr>
              <a:t>В пяти таких книжках окажется один миллион букв. А миллиард букв будет заключать в себе стопка из 5.000 экземпляров такой  книжки. Стопка, которая, будучи аккуратно сложена, составила бы столб высотой с Исаакиевский собор.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66"/>
                </a:solidFill>
                <a:latin typeface="Comic Sans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66"/>
                </a:solidFill>
                <a:latin typeface="Comic Sans MS"/>
              </a:rPr>
              <a:t>   </a:t>
            </a:r>
            <a:r>
              <a:rPr b="1" lang="ru-RU" sz="2600" spc="-1" strike="noStrike">
                <a:solidFill>
                  <a:srgbClr val="ff0066"/>
                </a:solidFill>
                <a:latin typeface="Comic Sans MS"/>
              </a:rPr>
              <a:t>Миллиард секунд часы отобьют более чем в 30 лет (точнее в 31,7 лет). А миллиард минут составляет более 19 столетий; человечество всего 29 апреля 1902 года в 10 часов 40 минут  начало считать второй миллиард минут от первого дня нашего летосчисления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5" descr="часы"/>
          <p:cNvPicPr/>
          <p:nvPr/>
        </p:nvPicPr>
        <p:blipFill>
          <a:blip r:embed="rId1"/>
          <a:stretch/>
        </p:blipFill>
        <p:spPr>
          <a:xfrm>
            <a:off x="7020000" y="494028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книга1"/>
          <p:cNvPicPr/>
          <p:nvPr/>
        </p:nvPicPr>
        <p:blipFill>
          <a:blip r:embed="rId2"/>
          <a:stretch/>
        </p:blipFill>
        <p:spPr>
          <a:xfrm>
            <a:off x="7308720" y="22050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1262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00cc"/>
                </a:solidFill>
                <a:uFillTx/>
                <a:latin typeface="Comic Sans MS"/>
              </a:rPr>
              <a:t>БИЛЛИОН и ТРИЛЛИО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76960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cc00"/>
                </a:solidFill>
                <a:latin typeface="Comic Sans MS"/>
              </a:rPr>
              <a:t>Ощутить огромность этих числовых исполинов трудно даже человеку, опытному в обращении с миллионами.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Великан – миллион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- такой же карлик рядом со  </a:t>
            </a: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сверхвеликаном биллионом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, как единица рядом с миллионом. Об этом взаимоотношении мы забываем и не делаем в своем воображении большой разницы между </a:t>
            </a: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миллионом, биллионом и триллионом</a:t>
            </a: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.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722ab"/>
                </a:solidFill>
                <a:latin typeface="Comic Sans MS"/>
              </a:rPr>
              <a:t>Волос, увеличенный по толщине в биллион раз, был бы раз в 8 шире земного шара, а муха при таком увеличении была бы в 70 раз толще Солнца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4" descr="астроном"/>
          <p:cNvPicPr/>
          <p:nvPr/>
        </p:nvPicPr>
        <p:blipFill>
          <a:blip r:embed="rId1"/>
          <a:stretch/>
        </p:blipFill>
        <p:spPr>
          <a:xfrm>
            <a:off x="7308720" y="4581360"/>
            <a:ext cx="12747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353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Взаимоотношение между миллионом, биллионом и триллионом можно с некоторою наглядностью представить следующим   образом.</a:t>
            </a: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В Санкт – Петербурге  еще  недавно  было миллион жителей. Представьте себе длинный прямой ряд городов таких как Санкт – Петербург ,целый миллион их: в этой цепи столиц, тянущихся на семь миллионов километров (в 20 раз дальше Луны) будет насчитываться биллион жителей..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60eac"/>
                </a:solidFill>
                <a:latin typeface="Comic Sans MS"/>
              </a:rPr>
              <a:t>Теперь вообразите, что перед вами не один такой ряд городов, а целый миллион рядов, т.е. квадрат, каждая сторона которого состоит из миллиона Санкт – Петербургов  и, который внутри сплошь уставлен такими городами: в этом квадрате будет триллион жите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4" descr="полоска2"/>
          <p:cNvPicPr/>
          <p:nvPr/>
        </p:nvPicPr>
        <p:blipFill>
          <a:blip r:embed="rId1"/>
          <a:stretch/>
        </p:blipFill>
        <p:spPr>
          <a:xfrm>
            <a:off x="1835280" y="5445000"/>
            <a:ext cx="571500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7696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Одним триллионом кирпичей можно было бы, размещая их плотным слоем по твердой поверхности земного шара, покрыть все материки равномерным сплошным пластом высотою с четырехэтажный дом (16 м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Comic Sans MS"/>
              </a:rPr>
              <a:t>Если бы все видимые в сильнейшие телескопы звезды обоих небесных полушарий, т. е. не менее 500 миллионов звезд- были   обитаемы   и   населены   каждая, как   наша Земля,   то   на  всех  этих звездах, вместе взятых, насчитывался бы только один  триллион  людей.</a:t>
            </a:r>
            <a:r>
              <a:rPr b="0" lang="ru-RU" sz="2800" spc="-1" strike="noStrike">
                <a:solidFill>
                  <a:srgbClr val="9900cc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5" descr="глобус"/>
          <p:cNvPicPr/>
          <p:nvPr/>
        </p:nvPicPr>
        <p:blipFill>
          <a:blip r:embed="rId1"/>
          <a:stretch/>
        </p:blipFill>
        <p:spPr>
          <a:xfrm>
            <a:off x="7093080" y="184464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человек"/>
          <p:cNvPicPr/>
          <p:nvPr/>
        </p:nvPicPr>
        <p:blipFill>
          <a:blip r:embed="rId2"/>
          <a:stretch/>
        </p:blipFill>
        <p:spPr>
          <a:xfrm>
            <a:off x="7093080" y="4941720"/>
            <a:ext cx="15714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748836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400"/>
                </a:solidFill>
                <a:latin typeface="Comic Sans MS"/>
              </a:rPr>
              <a:t>Интересные сведения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omic Sans MS"/>
              </a:rPr>
              <a:t>радиус Земли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– 6 400 к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omic Sans MS"/>
              </a:rPr>
              <a:t>площадь земного шара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– 510 млн. кв. к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omic Sans MS"/>
              </a:rPr>
              <a:t>среднее расстояние от Земли до Солнца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– 150 млн. к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omic Sans MS"/>
              </a:rPr>
              <a:t>диаметр нашей Галактики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– 85 тыс. световых л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omic Sans MS"/>
              </a:rPr>
              <a:t>1 световой год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= 9 трлн. 500 млрд. к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римерно </a:t>
            </a:r>
            <a:r>
              <a:rPr b="0" lang="ru-RU" sz="2800" spc="-1" strike="noStrike">
                <a:solidFill>
                  <a:srgbClr val="9900cc"/>
                </a:solidFill>
                <a:latin typeface="Comic Sans MS"/>
              </a:rPr>
              <a:t>1 млн. дней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минул со дня открытия первых Олимпийских игр в Древней Греции (776 г. до н.э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С начала нашей эры прошло более </a:t>
            </a:r>
            <a:r>
              <a:rPr b="0" lang="ru-RU" sz="2800" spc="-1" strike="noStrike">
                <a:solidFill>
                  <a:srgbClr val="9900cc"/>
                </a:solidFill>
                <a:latin typeface="Comic Sans MS"/>
              </a:rPr>
              <a:t>миллиарда секунд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4" descr="шар"/>
          <p:cNvPicPr/>
          <p:nvPr/>
        </p:nvPicPr>
        <p:blipFill>
          <a:blip r:embed="rId1"/>
          <a:stretch/>
        </p:blipFill>
        <p:spPr>
          <a:xfrm>
            <a:off x="7093080" y="5084640"/>
            <a:ext cx="1366560" cy="1366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карандаш"/>
          <p:cNvPicPr/>
          <p:nvPr/>
        </p:nvPicPr>
        <p:blipFill>
          <a:blip r:embed="rId2"/>
          <a:stretch/>
        </p:blipFill>
        <p:spPr>
          <a:xfrm>
            <a:off x="0" y="0"/>
            <a:ext cx="12384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7:35:09Z</dcterms:created>
  <dc:creator>Лелик</dc:creator>
  <dc:description/>
  <dc:language>en-US</dc:language>
  <cp:lastModifiedBy>26552</cp:lastModifiedBy>
  <dcterms:modified xsi:type="dcterms:W3CDTF">2010-05-31T12:21:49Z</dcterms:modified>
  <cp:revision>22</cp:revision>
  <dc:subject/>
  <dc:title>Формула «сложных процентов» и применение её к решению задач</dc:title>
</cp:coreProperties>
</file>